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7E2-10C6-46EF-A493-59DA7353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A93-2B86-4860-BEF5-5572C650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5B0-1438-4D56-824B-54CD0A28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D0B-BFC0-4B60-B014-437FC1EC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5BC-090F-493B-A001-7A96BA30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6CA-82C3-400B-8463-CA67793B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DEF-6390-4462-A21E-D703AE4A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4D8-DC8B-4C4B-9357-1BD6AE1B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1D6-A2DD-4BEB-93D4-5B3E5F80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26D-F907-4F2F-BFE7-306FA3FF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F01-E07E-4F2F-BA19-C2A72ADA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1DF-5ECA-40DC-8680-B6D0B4C1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C0B15-B302-4F67-9BB4-9BC6FB06A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16:11:19Z</dcterms:created>
  <dc:creator>tester </dc:creator>
  <dc:description/>
  <dc:language>en-US</dc:language>
  <cp:lastModifiedBy/>
  <cp:revision>0</cp:revision>
  <dc:subject/>
  <dc:title/>
</cp:coreProperties>
</file>