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0"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5"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8"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9"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9"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1"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3"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4"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8"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9"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0"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4"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6"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8"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0"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1"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3"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4"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5"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6"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8"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9"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0"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1"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2"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3"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4FB338-D05C-40D6-8FCC-E70BB165B5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3"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55937A-E747-4635-B02F-0BC5F2E4F3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5"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C7BD21-5A3E-4168-BE97-EE5C666826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7"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C4C6F2-D448-4A0C-AF7D-01AB855783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E856A6-E9FA-4560-AF90-FB8005D770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16833E-48F6-4481-9264-E3DC278D54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C1E44A-E8E3-43F0-BE00-A72365B135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6"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8"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6DF959-9911-4C67-AE6A-B6C2B78C0E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0"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1"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2"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3D6482-A91D-46BB-857C-CE05EB3B05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4"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5"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D57867-8437-4B64-858C-CFF2902ACA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8"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0"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25F9FF-F6CA-4402-ACC6-9543880327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3"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4"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5"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6"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7"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A2EA71-9DC1-44B1-860D-C186A1E7B7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2"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6"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1" name="PlaceHolder 2"/>
          <p:cNvSpPr>
            <a:spLocks noGrp="1"/>
          </p:cNvSpPr>
          <p:nvPr>
            <p:ph type="dt" idx="1"/>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date/time&gt;</a:t>
            </a:r>
            <a:endParaRPr b="0" lang="en-US" sz="1000" spc="-1" strike="noStrike">
              <a:solidFill>
                <a:srgbClr val="000000"/>
              </a:solidFill>
              <a:latin typeface="Futura Bk"/>
            </a:endParaRPr>
          </a:p>
        </p:txBody>
      </p:sp>
      <p:sp>
        <p:nvSpPr>
          <p:cNvPr id="2" name="PlaceHolder 3"/>
          <p:cNvSpPr>
            <a:spLocks noGrp="1"/>
          </p:cNvSpPr>
          <p:nvPr>
            <p:ph type="ftr" idx="2"/>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footer&gt;</a:t>
            </a:r>
            <a:endParaRPr b="0" lang="en-US" sz="1000" spc="-1" strike="noStrike">
              <a:solidFill>
                <a:srgbClr val="000000"/>
              </a:solidFill>
              <a:latin typeface="Futura Bk"/>
            </a:endParaRPr>
          </a:p>
        </p:txBody>
      </p:sp>
      <p:sp>
        <p:nvSpPr>
          <p:cNvPr id="3"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4"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5" name="" descr=""/>
          <p:cNvPicPr/>
          <p:nvPr/>
        </p:nvPicPr>
        <p:blipFill>
          <a:blip r:embed="rId2"/>
          <a:srcRect l="0" t="0" r="11376" b="0"/>
          <a:stretch/>
        </p:blipFill>
        <p:spPr>
          <a:xfrm>
            <a:off x="8329680" y="101520"/>
            <a:ext cx="655560" cy="628560"/>
          </a:xfrm>
          <a:prstGeom prst="rect">
            <a:avLst/>
          </a:prstGeom>
          <a:ln w="0">
            <a:noFill/>
          </a:ln>
        </p:spPr>
      </p:pic>
      <p:sp>
        <p:nvSpPr>
          <p:cNvPr id="6" name="PlaceHolder 4"/>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27800" y="0"/>
            <a:ext cx="2716200" cy="6858000"/>
          </a:xfrm>
          <a:prstGeom prst="rect">
            <a:avLst/>
          </a:prstGeom>
          <a:ln w="0">
            <a:noFill/>
          </a:ln>
        </p:spPr>
      </p:pic>
      <p:pic>
        <p:nvPicPr>
          <p:cNvPr id="44" name="" descr=""/>
          <p:cNvPicPr/>
          <p:nvPr/>
        </p:nvPicPr>
        <p:blipFill>
          <a:blip r:embed="rId3"/>
          <a:stretch/>
        </p:blipFill>
        <p:spPr>
          <a:xfrm>
            <a:off x="0" y="0"/>
            <a:ext cx="6369120" cy="4809960"/>
          </a:xfrm>
          <a:prstGeom prst="rect">
            <a:avLst/>
          </a:prstGeom>
          <a:ln w="0">
            <a:noFill/>
          </a:ln>
        </p:spPr>
      </p:pic>
      <p:sp>
        <p:nvSpPr>
          <p:cNvPr id="45"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46"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5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47" name="" descr=""/>
          <p:cNvPicPr/>
          <p:nvPr/>
        </p:nvPicPr>
        <p:blipFill>
          <a:blip r:embed="rId4"/>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399960" y="1044720"/>
            <a:ext cx="8586720" cy="554832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633240" indent="-518760">
              <a:spcAft>
                <a:spcPts val="814"/>
              </a:spcAft>
              <a:buClr>
                <a:srgbClr val="6e6f72"/>
              </a:buClr>
              <a:buFont typeface="Futura Bk"/>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1090440" indent="-342720">
              <a:spcAft>
                <a:spcPts val="814"/>
              </a:spcAft>
              <a:buClr>
                <a:srgbClr val="6e6f72"/>
              </a:buClr>
              <a:buFont typeface="Futura Bk"/>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547640" indent="-342720">
              <a:spcAft>
                <a:spcPts val="814"/>
              </a:spcAft>
              <a:buClr>
                <a:srgbClr val="6e6f72"/>
              </a:buClr>
              <a:buFont typeface="Futura Bk"/>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2004840" indent="-342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85" name="PlaceHolder 2"/>
          <p:cNvSpPr>
            <a:spLocks noGrp="1"/>
          </p:cNvSpPr>
          <p:nvPr>
            <p:ph type="dt" idx="3"/>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date/time&gt;</a:t>
            </a:r>
            <a:endParaRPr b="0" lang="en-US" sz="1000" spc="-1" strike="noStrike">
              <a:solidFill>
                <a:srgbClr val="000000"/>
              </a:solidFill>
              <a:latin typeface="Futura Bk"/>
            </a:endParaRPr>
          </a:p>
        </p:txBody>
      </p:sp>
      <p:sp>
        <p:nvSpPr>
          <p:cNvPr id="86" name="PlaceHolder 3"/>
          <p:cNvSpPr>
            <a:spLocks noGrp="1"/>
          </p:cNvSpPr>
          <p:nvPr>
            <p:ph type="ftr" idx="4"/>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footer&gt;</a:t>
            </a:r>
            <a:endParaRPr b="0" lang="en-US" sz="1000" spc="-1" strike="noStrike">
              <a:solidFill>
                <a:srgbClr val="000000"/>
              </a:solidFill>
              <a:latin typeface="Futura Bk"/>
            </a:endParaRPr>
          </a:p>
        </p:txBody>
      </p:sp>
      <p:sp>
        <p:nvSpPr>
          <p:cNvPr id="87" name="PlaceHolder 4"/>
          <p:cNvSpPr>
            <a:spLocks noGrp="1"/>
          </p:cNvSpPr>
          <p:nvPr>
            <p:ph type="sldNum" idx="5"/>
          </p:nvPr>
        </p:nvSpPr>
        <p:spPr>
          <a:xfrm>
            <a:off x="8224920" y="6638400"/>
            <a:ext cx="7617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e6f72"/>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B815-70ED-4BB9-8BF7-957FD0B7BEED}" type="slidenum">
              <a:rPr b="0" lang="en-US" sz="1200" spc="-1" strike="noStrike">
                <a:solidFill>
                  <a:srgbClr val="6e6f72"/>
                </a:solidFill>
                <a:latin typeface="Futura Hv"/>
              </a:rPr>
              <a:t>&lt;number&gt;</a:t>
            </a:fld>
            <a:endParaRPr b="0" lang="en-US" sz="1200" spc="-1" strike="noStrike">
              <a:solidFill>
                <a:srgbClr val="000000"/>
              </a:solidFill>
              <a:latin typeface="Futura Bk"/>
            </a:endParaRPr>
          </a:p>
        </p:txBody>
      </p:sp>
      <p:sp>
        <p:nvSpPr>
          <p:cNvPr id="88"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89"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90" name="PlaceHolder 5"/>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pic>
        <p:nvPicPr>
          <p:cNvPr id="91" name="" descr=""/>
          <p:cNvPicPr/>
          <p:nvPr/>
        </p:nvPicPr>
        <p:blipFill>
          <a:blip r:embed="rId2"/>
          <a:srcRect l="0" t="0" r="11376" b="0"/>
          <a:stretch/>
        </p:blipFill>
        <p:spPr>
          <a:xfrm>
            <a:off x="8329680" y="101520"/>
            <a:ext cx="65556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hp.com/servers/proliantml110" TargetMode="Externa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Andy.bauman@hp.com" TargetMode="External"/><Relationship Id="rId3" Type="http://schemas.openxmlformats.org/officeDocument/2006/relationships/hyperlink" Target="mailto:Yan-fei.yang@hp.com" TargetMode="External"/><Relationship Id="rId4" Type="http://schemas.openxmlformats.org/officeDocument/2006/relationships/hyperlink" Target="mailto:Kwang-leng.seah@hp.com" TargetMode="External"/><Relationship Id="rId5" Type="http://schemas.openxmlformats.org/officeDocument/2006/relationships/hyperlink" Target="mailto:Seah-sae.iso@hp.com" TargetMode="External"/><Relationship Id="rId6" Type="http://schemas.openxmlformats.org/officeDocument/2006/relationships/hyperlink" Target="http://as.ideascp.com/cp/" TargetMode="External"/><Relationship Id="rId7" Type="http://schemas.openxmlformats.org/officeDocument/2006/relationships/hyperlink" Target="http://as.ideascp.com/cp/" TargetMode="External"/><Relationship Id="rId8" Type="http://schemas.openxmlformats.org/officeDocument/2006/relationships/hyperlink" Target="http://as.ideascp.com/cp/" TargetMode="External"/><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257040" y="846000"/>
          <a:ext cx="8886960" cy="6012000"/>
        </p:xfrm>
        <a:graphic>
          <a:graphicData uri="http://schemas.openxmlformats.org/drawingml/2006/table">
            <a:tbl>
              <a:tblPr/>
              <a:tblGrid>
                <a:gridCol w="2949840"/>
                <a:gridCol w="2973240"/>
                <a:gridCol w="2963880"/>
              </a:tblGrid>
              <a:tr h="6304680">
                <a:tc>
                  <a:txBody>
                    <a:bodyPr lIns="45720" rIns="45720" tIns="46800" bIns="46800" anchor="t">
                      <a:noAutofit/>
                    </a:bodyPr>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1. What is new</a:t>
                      </a:r>
                      <a:endParaRPr b="0" lang="en-US" sz="1200" spc="-1" strike="noStrike">
                        <a:solidFill>
                          <a:srgbClr val="000000"/>
                        </a:solidFill>
                        <a:latin typeface="Futura Bk"/>
                      </a:endParaRPr>
                    </a:p>
                    <a:p>
                      <a:pPr>
                        <a:lnSpc>
                          <a:spcPct val="9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HP ProLiant ML110 G5 (ML110 G5) is an Intel-based, single processor, entry-level, 4U form factor tower server . It is ideal for single-application IT infrastructure, web, and edge-of-network applications.</a:t>
                      </a:r>
                      <a:endParaRPr b="0" lang="en-US" sz="900" spc="-1" strike="noStrike">
                        <a:solidFill>
                          <a:srgbClr val="000000"/>
                        </a:solidFill>
                        <a:latin typeface="Futura Bk"/>
                      </a:endParaRPr>
                    </a:p>
                    <a:p>
                      <a:pPr>
                        <a:lnSpc>
                          <a:spcPct val="9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 </a:t>
                      </a:r>
                      <a:r>
                        <a:rPr b="1" lang="en-US" sz="900" spc="-1" strike="noStrike">
                          <a:solidFill>
                            <a:srgbClr val="000000"/>
                          </a:solidFill>
                          <a:latin typeface="Futura Md"/>
                        </a:rPr>
                        <a:t>12 November 2007</a:t>
                      </a:r>
                      <a:r>
                        <a:rPr b="0" lang="en-US" sz="900" spc="-1" strike="noStrike">
                          <a:solidFill>
                            <a:srgbClr val="000000"/>
                          </a:solidFill>
                          <a:latin typeface="Futura Bk"/>
                        </a:rPr>
                        <a:t>, HP will announce the ML310 G5 as follows:</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1b5"/>
                          </a:solidFill>
                          <a:latin typeface="Futura Hv"/>
                        </a:rPr>
                        <a:t>Processor refresh</a:t>
                      </a:r>
                      <a:r>
                        <a:rPr b="0" lang="en-US" sz="900" spc="-1" strike="noStrike">
                          <a:solidFill>
                            <a:srgbClr val="000000"/>
                          </a:solidFill>
                          <a:latin typeface="Futura Bk"/>
                        </a:rPr>
                        <a:t> — Quad-Core Intel® Xeon® 3200 processor sequence</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M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71b5"/>
                          </a:solidFill>
                          <a:latin typeface="Futura Md"/>
                        </a:rPr>
                        <a:t>Options</a:t>
                      </a:r>
                      <a:r>
                        <a:rPr b="0" lang="en-US" sz="900" spc="-1" strike="noStrike">
                          <a:solidFill>
                            <a:srgbClr val="000000"/>
                          </a:solidFill>
                          <a:latin typeface="Futura Bk"/>
                        </a:rPr>
                        <a:t> — iLO2 functionality over shared system NIC in support of remote management</a:t>
                      </a:r>
                      <a:endParaRPr b="0" lang="en-US" sz="900" spc="-1" strike="noStrike">
                        <a:solidFill>
                          <a:srgbClr val="000000"/>
                        </a:solidFill>
                        <a:latin typeface="Futura Bk"/>
                      </a:endParaRPr>
                    </a:p>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2. At-a-glance</a:t>
                      </a:r>
                      <a:endParaRPr b="0" lang="en-US" sz="12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Available processors</a:t>
                      </a:r>
                      <a:r>
                        <a:rPr b="0" lang="en-US" sz="900" spc="-1" strike="noStrike">
                          <a:solidFill>
                            <a:srgbClr val="000000"/>
                          </a:solidFill>
                          <a:latin typeface="Futura Bk"/>
                        </a:rPr>
                        <a:t> — Intel single, dual-core, or quad-core processors:</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Quad-Core Intel® Xeon® 3200 processor sequence, or </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ual-Core Intel® Xeon® 3000 processor sequence, or </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ual-Core Intel® Core™2 E4400 processor, or </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ual-Core Intel® Pentium® E2160 processor, or</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ingle-Core Intel® Celeron® 420 processor</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rocessor capacity</a:t>
                      </a:r>
                      <a:r>
                        <a:rPr b="0" lang="en-US" sz="900" spc="-1" strike="noStrike">
                          <a:solidFill>
                            <a:srgbClr val="0071b5"/>
                          </a:solidFill>
                          <a:latin typeface="Futura Hv"/>
                        </a:rPr>
                        <a:t> </a:t>
                      </a:r>
                      <a:r>
                        <a:rPr b="0" lang="en-US" sz="900" spc="-1" strike="noStrike">
                          <a:solidFill>
                            <a:srgbClr val="000000"/>
                          </a:solidFill>
                          <a:latin typeface="Futura Bk"/>
                        </a:rPr>
                        <a:t>— 1P</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Form factor</a:t>
                      </a:r>
                      <a:r>
                        <a:rPr b="0" lang="en-US" sz="900" spc="-1" strike="noStrike">
                          <a:solidFill>
                            <a:srgbClr val="000000"/>
                          </a:solidFill>
                          <a:latin typeface="Futura Bk"/>
                        </a:rPr>
                        <a:t> — 5U, tower-optimized</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Memory</a:t>
                      </a:r>
                      <a:r>
                        <a:rPr b="0" lang="en-US" sz="900" spc="-1" strike="noStrike">
                          <a:solidFill>
                            <a:srgbClr val="000000"/>
                          </a:solidFill>
                          <a:latin typeface="Futura Bk"/>
                        </a:rPr>
                        <a:t> — Up to 8GB PC2-6400 unbuffered DDR2 ECC 800MHz</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I/O</a:t>
                      </a:r>
                      <a:r>
                        <a:rPr b="0" lang="en-US" sz="900" spc="-1" strike="noStrike">
                          <a:solidFill>
                            <a:srgbClr val="000000"/>
                          </a:solidFill>
                          <a:latin typeface="Futura Bk"/>
                        </a:rPr>
                        <a:t> — Up to 5 Total: (1) PCI Express x8, (3) PCI Express x1, Optional Extender Board for (1) 64-bit/100MHz PCI-X </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type</a:t>
                      </a:r>
                      <a:r>
                        <a:rPr b="0" lang="en-US" sz="900" spc="-1" strike="noStrike">
                          <a:solidFill>
                            <a:srgbClr val="0071b5"/>
                          </a:solidFill>
                          <a:latin typeface="Futura Hv"/>
                        </a:rPr>
                        <a:t> </a:t>
                      </a:r>
                      <a:r>
                        <a:rPr b="0" lang="en-US" sz="900" spc="-1" strike="noStrike">
                          <a:solidFill>
                            <a:srgbClr val="000000"/>
                          </a:solidFill>
                          <a:latin typeface="Futura Bk"/>
                        </a:rPr>
                        <a:t>— Non-hot plug Serial ATA and non-hot plug SCSI</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controllers</a:t>
                      </a:r>
                      <a:r>
                        <a:rPr b="0" lang="en-US" sz="900" spc="-1" strike="noStrike">
                          <a:solidFill>
                            <a:srgbClr val="0071b5"/>
                          </a:solidFill>
                          <a:latin typeface="Futura Hv"/>
                        </a:rPr>
                        <a:t> </a:t>
                      </a:r>
                      <a:r>
                        <a:rPr b="0" lang="en-US" sz="900" spc="-1" strike="noStrike">
                          <a:solidFill>
                            <a:srgbClr val="000000"/>
                          </a:solidFill>
                          <a:latin typeface="Futura Bk"/>
                        </a:rPr>
                        <a:t>— </a:t>
                      </a:r>
                      <a:r>
                        <a:rPr b="0" lang="en-US" sz="900" spc="-1" strike="noStrike">
                          <a:solidFill>
                            <a:srgbClr val="000000"/>
                          </a:solidFill>
                          <a:latin typeface="Futura Hv"/>
                        </a:rPr>
                        <a:t>SAS</a:t>
                      </a:r>
                      <a:r>
                        <a:rPr b="0" lang="en-US" sz="900" spc="-1" strike="noStrike">
                          <a:solidFill>
                            <a:srgbClr val="000000"/>
                          </a:solidFill>
                          <a:latin typeface="Futura Bk"/>
                        </a:rPr>
                        <a:t> — HP SC40Ge SAS HBA with RAID 0,1 in a PCI Express slot; </a:t>
                      </a:r>
                      <a:r>
                        <a:rPr b="0" lang="en-US" sz="900" spc="-1" strike="noStrike">
                          <a:solidFill>
                            <a:srgbClr val="000000"/>
                          </a:solidFill>
                          <a:latin typeface="Futura Hv"/>
                        </a:rPr>
                        <a:t>SATA</a:t>
                      </a:r>
                      <a:r>
                        <a:rPr b="0" lang="en-US" sz="900" spc="-1" strike="noStrike">
                          <a:solidFill>
                            <a:srgbClr val="000000"/>
                          </a:solidFill>
                          <a:latin typeface="Futura Bk"/>
                        </a:rPr>
                        <a:t> —Embedded SATA with integrated SATA RAID 0,1</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 management</a:t>
                      </a:r>
                      <a:r>
                        <a:rPr b="0" lang="en-US" sz="900" spc="-1" strike="noStrike">
                          <a:solidFill>
                            <a:srgbClr val="0071b5"/>
                          </a:solidFill>
                          <a:latin typeface="Futura Hv"/>
                        </a:rPr>
                        <a:t> </a:t>
                      </a:r>
                      <a:r>
                        <a:rPr b="0" lang="en-US" sz="900" spc="-1" strike="noStrike">
                          <a:solidFill>
                            <a:srgbClr val="000000"/>
                          </a:solidFill>
                          <a:latin typeface="Futura Bk"/>
                        </a:rPr>
                        <a:t>— Lights Out 100c Remote Management Card </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igh availability</a:t>
                      </a:r>
                      <a:r>
                        <a:rPr b="0" lang="en-US" sz="900" spc="-1" strike="noStrike">
                          <a:solidFill>
                            <a:srgbClr val="0071b5"/>
                          </a:solidFill>
                          <a:latin typeface="Futura Hv"/>
                        </a:rPr>
                        <a:t> </a:t>
                      </a:r>
                      <a:r>
                        <a:rPr b="0" lang="en-US" sz="900" spc="-1" strike="noStrike">
                          <a:solidFill>
                            <a:srgbClr val="000000"/>
                          </a:solidFill>
                          <a:latin typeface="Futura Bk"/>
                        </a:rPr>
                        <a:t>— Redundant, hot plug power supply</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Warranty </a:t>
                      </a:r>
                      <a:r>
                        <a:rPr b="0" lang="en-US" sz="900" spc="-1" strike="noStrike">
                          <a:solidFill>
                            <a:srgbClr val="000000"/>
                          </a:solidFill>
                          <a:latin typeface="Futura Bk"/>
                        </a:rPr>
                        <a:t>— Hardware diagnostic support and repair is available for one year from date of purchase. Support for software and initial setup is available for 90 days from date of purchase. SATA hard drives have a one year warranty</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3. Customer opportunities</a:t>
                      </a:r>
                      <a:endParaRPr b="0" lang="en-US" sz="1200" spc="-1" strike="noStrike">
                        <a:solidFill>
                          <a:srgbClr val="000000"/>
                        </a:solidFill>
                        <a:latin typeface="Futura Bk"/>
                      </a:endParaRPr>
                    </a:p>
                    <a:p>
                      <a:pPr lvl="1" marL="233280" indent="-118800">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ML110 G5 is best value and well-suited for:</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ependable, easy-to-use workgroup server for hosting basic file/print for 20 or fewer clients</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latform for light application hosting, shared web access, groupware, or small database applications</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ntry-level for small businesses</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me price as misapplied desktop PCs</a:t>
                      </a:r>
                      <a:endParaRPr b="0" lang="en-US" sz="900" spc="-1" strike="noStrike">
                        <a:solidFill>
                          <a:srgbClr val="000000"/>
                        </a:solidFill>
                        <a:latin typeface="Futura Bk"/>
                      </a:endParaRPr>
                    </a:p>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Look for customers with the following business requirements:</a:t>
                      </a:r>
                      <a:endParaRPr b="0" lang="en-US" sz="900" spc="-1" strike="noStrike">
                        <a:solidFill>
                          <a:srgbClr val="000000"/>
                        </a:solidFill>
                        <a:latin typeface="Futura Bk"/>
                      </a:endParaRPr>
                    </a:p>
                    <a:p>
                      <a:pPr lvl="1" marL="233280" indent="-118800">
                        <a:lnSpc>
                          <a:spcPct val="10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ea typeface="ＭＳ Ｐゴシック"/>
                        </a:rPr>
                        <a:t>Utilizing one-way ProLiant servers for general purpose or entry-level systems. </a:t>
                      </a:r>
                      <a:r>
                        <a:rPr b="0" i="1" lang="en-US" sz="900" spc="-1" strike="noStrike">
                          <a:solidFill>
                            <a:srgbClr val="00558e"/>
                          </a:solidFill>
                          <a:latin typeface="Futura Hv"/>
                          <a:ea typeface="ＭＳ Ｐゴシック"/>
                        </a:rPr>
                        <a:t>Why?</a:t>
                      </a:r>
                      <a:endParaRPr b="0" lang="en-US" sz="900" spc="-1" strike="noStrike">
                        <a:solidFill>
                          <a:srgbClr val="000000"/>
                        </a:solidFill>
                        <a:latin typeface="Futura Bk"/>
                      </a:endParaRPr>
                    </a:p>
                    <a:p>
                      <a:pPr lvl="2" marL="457200" indent="-10944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Ｐゴシック"/>
                        </a:rPr>
                        <a:t>The ML110 G5 is designed with a balanced architecture to drive the adoption of quad-core technology to its line of single processor systems. The ML110 G5 targets customers with single-tier, simple architectures, homogeneous environments with single applications and workloads, and requires very little IT support. </a:t>
                      </a:r>
                      <a:endParaRPr b="0" lang="en-US" sz="900" spc="-1" strike="noStrike">
                        <a:solidFill>
                          <a:srgbClr val="000000"/>
                        </a:solidFill>
                        <a:latin typeface="Futura Bk"/>
                      </a:endParaRPr>
                    </a:p>
                    <a:p>
                      <a:pPr lvl="1" marL="233280" indent="-118800">
                        <a:lnSpc>
                          <a:spcPct val="10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as a limited budget for server hardware, but Supporting locations with a limited IT staff.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0944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ML110 G5 is well-purposed for small businesses or remote sites with minimal technology skills, limited, or no IT staff. These customers need a reliable server that requires little attention or maintenance and has the warranties and support of a branded-top tier vendor. The ML110 G5 can be remotely managed for remote sites or second offices. </a:t>
                      </a:r>
                      <a:endParaRPr b="0" lang="en-US" sz="900" spc="-1" strike="noStrike">
                        <a:solidFill>
                          <a:srgbClr val="000000"/>
                        </a:solidFill>
                        <a:latin typeface="Futura Bk"/>
                      </a:endParaRPr>
                    </a:p>
                    <a:p>
                      <a:pPr lvl="1" marL="233280" indent="-118800">
                        <a:lnSpc>
                          <a:spcPct val="10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Obtaining data protection at an affordable price.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0944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is an efficiently sized server that is ideal for small offices, first networks and remote sites. It delivers true server reliability and functionality for the price of a typical desktop computer.</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lvl="1" marL="228600" indent="-114120">
                        <a:lnSpc>
                          <a:spcPct val="9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lying on the server to run industry-standard applications.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deal applications include file and print, web messaging, small vertical applications or databases, and shared Internet access and LAN infrastructure. Ideal ML110 G5 rely on servers to run day-to-day applications for their growing businesses and they require a server powerful enough to drive these applications. </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urchasing an easy-to-own server.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esigned specifically for businesses that require an easy-to-configure, easy-to-use platform. All major components are designed to be removed or installed with little effort. When growth becomes necessary for a small business network, the ML110 G5 is easily reconfigurable.</a:t>
                      </a:r>
                      <a:endParaRPr b="0" lang="en-US" sz="900" spc="-1" strike="noStrike">
                        <a:solidFill>
                          <a:srgbClr val="000000"/>
                        </a:solidFill>
                        <a:latin typeface="Futura Bk"/>
                      </a:endParaRPr>
                    </a:p>
                    <a:p>
                      <a:pPr>
                        <a:lnSpc>
                          <a:spcPct val="9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4. Qualifying the customer</a:t>
                      </a:r>
                      <a:endParaRPr b="0" lang="en-US" sz="12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Futura Hv"/>
                        </a:rPr>
                        <a:t>Green light deals (must win)</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quires enterprise class performance and features</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quires remote management capability</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Ｐゴシック"/>
                        </a:rPr>
                        <a:t>Requires consistent, reliable server performance at an affordable price</a:t>
                      </a:r>
                      <a:endParaRPr b="0" lang="en-US" sz="900" spc="-1" strike="noStrike">
                        <a:solidFill>
                          <a:srgbClr val="000000"/>
                        </a:solidFill>
                        <a:latin typeface="Futura Bk"/>
                      </a:endParaRPr>
                    </a:p>
                    <a:p>
                      <a:pPr>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9e01"/>
                          </a:solidFill>
                          <a:latin typeface="Futura Hv"/>
                        </a:rPr>
                        <a:t> </a:t>
                      </a:r>
                      <a:r>
                        <a:rPr b="0" lang="en-US" sz="900" spc="-1" strike="noStrike">
                          <a:solidFill>
                            <a:srgbClr val="dd9e01"/>
                          </a:solidFill>
                          <a:latin typeface="Futura Hv"/>
                        </a:rPr>
                        <a:t>Yellow light deals (more qualification)</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s a growing small business with a very limited budget for hardware but requires high availability to meet the needs of their clients</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ants to ensure their hardware purchase has a long lifecycle to protect their investment</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Futura Hv"/>
                        </a:rPr>
                        <a:t>Red light deals (walk away) </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s manually performing back-ups and does not feel their business or infrastructure is adversely impacted by their process</a:t>
                      </a:r>
                      <a:endParaRPr b="0" lang="en-US" sz="900" spc="-1" strike="noStrike">
                        <a:solidFill>
                          <a:srgbClr val="000000"/>
                        </a:solidFill>
                        <a:latin typeface="Futura Bk"/>
                      </a:endParaRPr>
                    </a:p>
                    <a:p>
                      <a:pPr>
                        <a:lnSpc>
                          <a:spcPct val="9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5. Further information/resources</a:t>
                      </a:r>
                      <a:endParaRPr b="0" lang="en-US" sz="1200" spc="-1" strike="noStrike">
                        <a:solidFill>
                          <a:srgbClr val="000000"/>
                        </a:solidFill>
                        <a:latin typeface="Futura Bk"/>
                      </a:endParaRPr>
                    </a:p>
                    <a:p>
                      <a:pPr>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For QuickSpecs, white papers, and technical documentation, go to </a:t>
                      </a:r>
                      <a:r>
                        <a:rPr b="0" lang="en-US" sz="900" spc="-1" strike="noStrike">
                          <a:solidFill>
                            <a:srgbClr val="00558e"/>
                          </a:solidFill>
                          <a:latin typeface="Futura Hv"/>
                        </a:rPr>
                        <a:t>ML110 G5 on HP.com</a:t>
                      </a:r>
                      <a:endParaRPr b="0" lang="en-US" sz="900" spc="-1" strike="noStrike">
                        <a:solidFill>
                          <a:srgbClr val="000000"/>
                        </a:solidFill>
                        <a:latin typeface="Futura Bk"/>
                      </a:endParaRPr>
                    </a:p>
                    <a:p>
                      <a:pPr>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Bk"/>
                          <a:hlinkClick r:id="rId1"/>
                        </a:rPr>
                        <a:t>http://www.hp.com/servers/proliantml110</a:t>
                      </a:r>
                      <a:endParaRPr b="0" lang="en-US" sz="900" spc="-1" strike="noStrike">
                        <a:solidFill>
                          <a:srgbClr val="000000"/>
                        </a:solidFill>
                        <a:latin typeface="Futura Bk"/>
                      </a:endParaRPr>
                    </a:p>
                  </a:txBody>
                  <a:tcPr anchor="t" marL="45720" marR="45720">
                    <a:lnL>
                      <a:noFill/>
                    </a:lnL>
                    <a:lnR>
                      <a:noFill/>
                    </a:lnR>
                    <a:lnT>
                      <a:noFill/>
                    </a:lnT>
                    <a:lnB>
                      <a:noFill/>
                    </a:lnB>
                    <a:noFill/>
                  </a:tcPr>
                </a:tc>
              </a:tr>
            </a:tbl>
          </a:graphicData>
        </a:graphic>
      </p:graphicFrame>
      <p:sp>
        <p:nvSpPr>
          <p:cNvPr id="12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HP ProLiant ML110 G5 Server</a:t>
            </a:r>
            <a:endParaRPr b="0" lang="en-US" sz="2800" spc="-1" strike="noStrike">
              <a:solidFill>
                <a:srgbClr val="000000"/>
              </a:solidFill>
              <a:latin typeface="Futura Bk"/>
            </a:endParaRPr>
          </a:p>
        </p:txBody>
      </p:sp>
      <p:grpSp>
        <p:nvGrpSpPr>
          <p:cNvPr id="130" name=""/>
          <p:cNvGrpSpPr/>
          <p:nvPr/>
        </p:nvGrpSpPr>
        <p:grpSpPr>
          <a:xfrm>
            <a:off x="0" y="0"/>
            <a:ext cx="257040" cy="6858000"/>
            <a:chOff x="0" y="0"/>
            <a:chExt cx="257040" cy="6858000"/>
          </a:xfrm>
        </p:grpSpPr>
        <p:sp>
          <p:nvSpPr>
            <p:cNvPr id="131"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32"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33" name="" descr=""/>
          <p:cNvPicPr/>
          <p:nvPr/>
        </p:nvPicPr>
        <p:blipFill>
          <a:blip r:embed="rId2"/>
          <a:srcRect l="0" t="0" r="11376" b="0"/>
          <a:stretch/>
        </p:blipFill>
        <p:spPr>
          <a:xfrm>
            <a:off x="8329680" y="101520"/>
            <a:ext cx="655560" cy="628560"/>
          </a:xfrm>
          <a:prstGeom prst="rect">
            <a:avLst/>
          </a:prstGeom>
          <a:ln w="0">
            <a:noFill/>
          </a:ln>
        </p:spPr>
      </p:pic>
      <p:sp>
        <p:nvSpPr>
          <p:cNvPr id="134"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35"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pic>
        <p:nvPicPr>
          <p:cNvPr id="136" name="" descr=""/>
          <p:cNvPicPr/>
          <p:nvPr/>
        </p:nvPicPr>
        <p:blipFill>
          <a:blip r:embed="rId3"/>
          <a:stretch/>
        </p:blipFill>
        <p:spPr>
          <a:xfrm>
            <a:off x="5581800" y="0"/>
            <a:ext cx="542880" cy="1065240"/>
          </a:xfrm>
          <a:prstGeom prst="rect">
            <a:avLst/>
          </a:prstGeom>
          <a:ln w="0">
            <a:noFill/>
          </a:ln>
        </p:spPr>
      </p:pic>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2 November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800" spc="-1" strike="noStrike">
                <a:solidFill>
                  <a:srgbClr val="000000"/>
                </a:solidFill>
                <a:latin typeface="Futura Bk"/>
              </a:rPr>
              <a:t>HP ProLiant ML310 G5 Server</a:t>
            </a:r>
            <a:endParaRPr b="0" lang="en-US" sz="2800" spc="-1" strike="noStrike">
              <a:solidFill>
                <a:srgbClr val="000000"/>
              </a:solidFill>
              <a:latin typeface="Futura Bk"/>
            </a:endParaRPr>
          </a:p>
        </p:txBody>
      </p:sp>
      <p:grpSp>
        <p:nvGrpSpPr>
          <p:cNvPr id="138" name=""/>
          <p:cNvGrpSpPr/>
          <p:nvPr/>
        </p:nvGrpSpPr>
        <p:grpSpPr>
          <a:xfrm>
            <a:off x="0" y="0"/>
            <a:ext cx="257040" cy="6858000"/>
            <a:chOff x="0" y="0"/>
            <a:chExt cx="257040" cy="6858000"/>
          </a:xfrm>
        </p:grpSpPr>
        <p:sp>
          <p:nvSpPr>
            <p:cNvPr id="139"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40"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41" name="" descr=""/>
          <p:cNvPicPr/>
          <p:nvPr/>
        </p:nvPicPr>
        <p:blipFill>
          <a:blip r:embed="rId1"/>
          <a:srcRect l="0" t="0" r="11376" b="0"/>
          <a:stretch/>
        </p:blipFill>
        <p:spPr>
          <a:xfrm>
            <a:off x="8329680" y="101520"/>
            <a:ext cx="655560" cy="628560"/>
          </a:xfrm>
          <a:prstGeom prst="rect">
            <a:avLst/>
          </a:prstGeom>
          <a:ln w="0">
            <a:noFill/>
          </a:ln>
        </p:spPr>
      </p:pic>
      <p:sp>
        <p:nvSpPr>
          <p:cNvPr id="142"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43"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graphicFrame>
        <p:nvGraphicFramePr>
          <p:cNvPr id="144" name=""/>
          <p:cNvGraphicFramePr/>
          <p:nvPr/>
        </p:nvGraphicFramePr>
        <p:xfrm>
          <a:off x="399960" y="1036800"/>
          <a:ext cx="8586720" cy="5391000"/>
        </p:xfrm>
        <a:graphic>
          <a:graphicData uri="http://schemas.openxmlformats.org/drawingml/2006/table">
            <a:tbl>
              <a:tblPr/>
              <a:tblGrid>
                <a:gridCol w="962280"/>
                <a:gridCol w="2581200"/>
                <a:gridCol w="2609640"/>
                <a:gridCol w="2433600"/>
              </a:tblGrid>
              <a:tr h="23112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HP ProLiant ML310 G5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ell PowerEdge 840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IBM System x3200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latform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INUX,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INUX,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INUX,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5424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Operating system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d Hat Linux, SCO UNIX, SUSE Linux, NetWare,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d Hat Linux, SUSE Linux, Windows</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d Hat Linux, SUSE Linux, Windows</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rocessor famil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Core, Pentium, Xe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Pentium, Xe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ntium, Xe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9558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rocessor option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420 (1.6GHz 35W), Pentium E2160 (1.8GHz 65W), Core 2 Duo E4400 (2.0GHz 65W), Xeon X3065 (2.33GHz 65W), Xeon X3075 (2.66GHz 65W), Xeon X3210 (2.13GHz 95W), Xeon X3220 (2.4GHz 95W)</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430 (1.8GHz), Pentium D 935 (3.2GHz), Pentium E2160 (1.8GHz)</a:t>
                      </a:r>
                      <a:br>
                        <a:rPr sz="900"/>
                      </a:br>
                      <a:r>
                        <a:rPr b="0" lang="en-US" sz="900" spc="-1" strike="noStrike">
                          <a:solidFill>
                            <a:srgbClr val="000000"/>
                          </a:solidFill>
                          <a:latin typeface="Futura Bk"/>
                        </a:rPr>
                        <a:t>Core 2 Duo (2.2GHz), Xeon 3040 (1.86GHz), Xeon 3050 (2.13GHz)</a:t>
                      </a:r>
                      <a:br>
                        <a:rPr sz="900"/>
                      </a:br>
                      <a:r>
                        <a:rPr b="0" lang="en-US" sz="900" spc="-1" strike="noStrike">
                          <a:solidFill>
                            <a:srgbClr val="000000"/>
                          </a:solidFill>
                          <a:latin typeface="Futura Bk"/>
                        </a:rPr>
                        <a:t>Xeon 3060 (2.4GHz), Xeon 3070 (2.66GHz), Xeon X3210 (2.13GHz)</a:t>
                      </a:r>
                      <a:br>
                        <a:rPr sz="900"/>
                      </a:br>
                      <a:r>
                        <a:rPr b="0" lang="en-US" sz="900" spc="-1" strike="noStrike">
                          <a:solidFill>
                            <a:srgbClr val="000000"/>
                          </a:solidFill>
                          <a:latin typeface="Futura Bk"/>
                        </a:rPr>
                        <a:t>Xeon X3220 (2.4GHz), Xeon X3230 (2.66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ntium D 945 (3.4GHz), Pentium E2160 (1.8GHz)</a:t>
                      </a:r>
                      <a:br>
                        <a:rPr sz="900"/>
                      </a:br>
                      <a:r>
                        <a:rPr b="0" lang="en-US" sz="900" spc="-1" strike="noStrike">
                          <a:solidFill>
                            <a:srgbClr val="000000"/>
                          </a:solidFill>
                          <a:latin typeface="Futura Bk"/>
                        </a:rPr>
                        <a:t>Xeon 3040 (1.87GHz), Xeon 3050 (2.13GHz), Xeon 3060 (2.4GHz), Xeon X3210 (2.13GHz), Xeon X3220 (2.4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46332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Cach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KB (Celeron), 1 x 1MB (Pen 2100), 1 x 2MB (Core 2 4000), 1 x 4MB (Xeon 3000) or 1 x 8MB (Xeon 3200) L2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KB L2 (Celeron), 2 x 2MB L2 (Pen D), 2MB (Core 2), 2MB or 4MB L2 (3000 Series) or 2 x 4MB L2 (X3200 Serie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ntium D: 2 x 2MB L2; Pentium E: 1MB L2; Xeon 3000: 2MB, 4MB L2; Xeon 3200: 8M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Chipset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l 321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l 300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l 301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Memor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MB minimum, 8GB maximum, DDR2 SDRAM, unbuffered ECC</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MB minimum, 8GB maximum, DDR2 SDRAM, unbuffered ECC</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MB minimum, 8GB maximum, DDR2 SDRAM, unbuffered ECC</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isk controller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8-port SAS (SAS models), embedded SATA (SATA/SAS model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TA,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isk maximum internal</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000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4,000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000GB (SATA onl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RAID support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AID 0, 1; Optional RAID 1+0, 5, 6</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tional RAID 0, 1, 5</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Hot Swap: RAID 0,1</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Hot swap disk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S and 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S and 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S and 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I/O slot type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 x PCI Express x8, x PCI Express x1, 1 x 64-bit, 100MHz PCI-X on optional extender board</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 x PCI Express x8, 1 x PCI Express x1</a:t>
                      </a:r>
                      <a:br>
                        <a:rPr sz="900"/>
                      </a:br>
                      <a:r>
                        <a:rPr b="0" lang="en-US" sz="900" spc="-1" strike="noStrike">
                          <a:solidFill>
                            <a:srgbClr val="000000"/>
                          </a:solidFill>
                          <a:latin typeface="Futura Bk"/>
                        </a:rPr>
                        <a:t>2 x PCI-X 64-bit/133MHz, 1 x PCI 32-bit/33M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 x PCI 32-bit/33MHz, 2 x PCI-Express (one x1 and one x8)</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46332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Hot swap/</a:t>
                      </a:r>
                      <a:br>
                        <a:rPr sz="900"/>
                      </a:br>
                      <a:r>
                        <a:rPr b="0" lang="en-US" sz="900" spc="-1" strike="noStrike">
                          <a:solidFill>
                            <a:srgbClr val="ffffff"/>
                          </a:solidFill>
                          <a:latin typeface="Futura Hv"/>
                        </a:rPr>
                        <a:t>redundant power supply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tional</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o/No</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tandard</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6526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Regional contact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gridSpan="2">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S: </a:t>
                      </a:r>
                      <a:r>
                        <a:rPr b="0" lang="en-US" sz="900" spc="-1" strike="noStrike">
                          <a:solidFill>
                            <a:srgbClr val="000000"/>
                          </a:solidFill>
                          <a:latin typeface="Futura Hv"/>
                        </a:rPr>
                        <a:t>Andy Bauman</a:t>
                      </a:r>
                      <a:r>
                        <a:rPr b="0" lang="en-US" sz="900" spc="-1" strike="noStrike">
                          <a:solidFill>
                            <a:srgbClr val="000000"/>
                          </a:solidFill>
                          <a:latin typeface="Futura Bk"/>
                        </a:rPr>
                        <a:t>, </a:t>
                      </a:r>
                      <a:r>
                        <a:rPr b="0" lang="en-US" sz="900" spc="-1" strike="noStrike" u="sng">
                          <a:solidFill>
                            <a:srgbClr val="eb5f01"/>
                          </a:solidFill>
                          <a:uFillTx/>
                          <a:latin typeface="Futura Bk"/>
                          <a:hlinkClick r:id="rId2"/>
                        </a:rPr>
                        <a:t>Andy.bauman@hp.com</a:t>
                      </a:r>
                      <a:r>
                        <a:rPr b="0" lang="en-US" sz="900" spc="-1" strike="noStrike">
                          <a:solidFill>
                            <a:srgbClr val="000000"/>
                          </a:solidFill>
                          <a:latin typeface="Futura Bk"/>
                        </a:rPr>
                        <a:t> — Houston, TX USA</a:t>
                      </a:r>
                      <a:endParaRPr b="0" lang="en-US" sz="9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MEA: </a:t>
                      </a:r>
                      <a:r>
                        <a:rPr b="0" lang="en-US" sz="900" spc="-1" strike="noStrike">
                          <a:solidFill>
                            <a:srgbClr val="000000"/>
                          </a:solidFill>
                          <a:latin typeface="Futura Hv"/>
                        </a:rPr>
                        <a:t>Yan Fei Yang</a:t>
                      </a:r>
                      <a:r>
                        <a:rPr b="0" lang="en-US" sz="900" spc="-1" strike="noStrike">
                          <a:solidFill>
                            <a:srgbClr val="000000"/>
                          </a:solidFill>
                          <a:latin typeface="Futura Bk"/>
                        </a:rPr>
                        <a:t>, </a:t>
                      </a:r>
                      <a:r>
                        <a:rPr b="0" lang="en-US" sz="900" spc="-1" strike="noStrike" u="sng">
                          <a:solidFill>
                            <a:srgbClr val="eb5f01"/>
                          </a:solidFill>
                          <a:uFillTx/>
                          <a:latin typeface="Futura Bk"/>
                          <a:hlinkClick r:id="rId3"/>
                        </a:rPr>
                        <a:t>Yan-fei.yang@hp.com</a:t>
                      </a:r>
                      <a:r>
                        <a:rPr b="0" lang="en-US" sz="900" spc="-1" strike="noStrike">
                          <a:solidFill>
                            <a:srgbClr val="000000"/>
                          </a:solidFill>
                          <a:latin typeface="Futura Bk"/>
                        </a:rPr>
                        <a:t> — Meyrin, Switzerland</a:t>
                      </a:r>
                      <a:endParaRPr b="0" lang="en-US" sz="9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sia Pacific: </a:t>
                      </a:r>
                      <a:r>
                        <a:rPr b="0" lang="en-US" sz="900" spc="-1" strike="noStrike">
                          <a:solidFill>
                            <a:srgbClr val="000000"/>
                          </a:solidFill>
                          <a:latin typeface="Futura Hv"/>
                        </a:rPr>
                        <a:t>Kwang Leng Seah</a:t>
                      </a:r>
                      <a:r>
                        <a:rPr b="0" lang="en-US" sz="900" spc="-1" strike="noStrike">
                          <a:solidFill>
                            <a:srgbClr val="000000"/>
                          </a:solidFill>
                          <a:latin typeface="Futura Bk"/>
                        </a:rPr>
                        <a:t>, </a:t>
                      </a:r>
                      <a:r>
                        <a:rPr b="0" lang="en-US" sz="900" spc="-1" strike="noStrike" u="sng">
                          <a:solidFill>
                            <a:srgbClr val="eb5f01"/>
                          </a:solidFill>
                          <a:uFillTx/>
                          <a:latin typeface="Futura Bk"/>
                          <a:hlinkClick r:id="rId4"/>
                        </a:rPr>
                        <a:t>Kwang-leng.seah@hp.com</a:t>
                      </a:r>
                      <a:r>
                        <a:rPr b="0" lang="en-US" sz="900" spc="-1" strike="noStrike">
                          <a:solidFill>
                            <a:srgbClr val="000000"/>
                          </a:solidFill>
                          <a:latin typeface="Futura Bk"/>
                        </a:rPr>
                        <a:t> — Singapore</a:t>
                      </a:r>
                      <a:endParaRPr b="0" lang="en-US" sz="9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Japan: </a:t>
                      </a:r>
                      <a:r>
                        <a:rPr b="0" lang="en-US" sz="900" spc="-1" strike="noStrike">
                          <a:solidFill>
                            <a:srgbClr val="000000"/>
                          </a:solidFill>
                          <a:latin typeface="Futura Hv"/>
                        </a:rPr>
                        <a:t>Seah Sae Iso</a:t>
                      </a:r>
                      <a:r>
                        <a:rPr b="0" lang="en-US" sz="900" spc="-1" strike="noStrike">
                          <a:solidFill>
                            <a:srgbClr val="000000"/>
                          </a:solidFill>
                          <a:latin typeface="Futura Bk"/>
                        </a:rPr>
                        <a:t>, </a:t>
                      </a:r>
                      <a:r>
                        <a:rPr b="0" lang="en-US" sz="900" spc="-1" strike="noStrike" u="sng">
                          <a:solidFill>
                            <a:srgbClr val="eb5f01"/>
                          </a:solidFill>
                          <a:uFillTx/>
                          <a:latin typeface="Futura Bk"/>
                          <a:hlinkClick r:id="rId5"/>
                        </a:rPr>
                        <a:t>Seah-sae.iso@hp.com</a:t>
                      </a:r>
                      <a:r>
                        <a:rPr b="0" lang="en-US" sz="900" spc="-1" strike="noStrike">
                          <a:solidFill>
                            <a:srgbClr val="000000"/>
                          </a:solidFill>
                          <a:latin typeface="Futura Bk"/>
                        </a:rPr>
                        <a:t> — Tokyo, Japan</a:t>
                      </a:r>
                      <a:endParaRPr b="0" lang="en-US" sz="900" spc="-1" strike="noStrike">
                        <a:solidFill>
                          <a:srgbClr val="000000"/>
                        </a:solidFill>
                        <a:latin typeface="Futura Bk"/>
                      </a:endParaRPr>
                    </a:p>
                  </a:txBody>
                  <a:tcPr anchor="t" marL="45720" marR="45720">
                    <a:lnL w="13680">
                      <a:solidFill>
                        <a:srgbClr val="ffffff"/>
                      </a:solidFill>
                    </a:lnL>
                    <a:lnR>
                      <a:noFill/>
                    </a:lnR>
                    <a:lnT w="13680">
                      <a:solidFill>
                        <a:srgbClr val="ffffff"/>
                      </a:solidFill>
                    </a:lnT>
                    <a:lnB>
                      <a:noFill/>
                    </a:lnB>
                    <a:solidFill>
                      <a:srgbClr val="aaabb0">
                        <a:alpha val="3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a:noFill/>
                    </a:lnL>
                    <a:lnR>
                      <a:noFill/>
                    </a:lnR>
                    <a:lnT w="13680">
                      <a:solidFill>
                        <a:srgbClr val="ffffff"/>
                      </a:solidFill>
                    </a:lnT>
                    <a:lnB>
                      <a:noFill/>
                    </a:lnB>
                    <a:solidFill>
                      <a:srgbClr val="aaabb0">
                        <a:alpha val="30000"/>
                      </a:srgbClr>
                    </a:solidFill>
                  </a:tcPr>
                </a:tc>
              </a:tr>
            </a:tbl>
          </a:graphicData>
        </a:graphic>
      </p:graphicFrame>
      <p:sp>
        <p:nvSpPr>
          <p:cNvPr id="145" name=""/>
          <p:cNvSpPr/>
          <p:nvPr/>
        </p:nvSpPr>
        <p:spPr>
          <a:xfrm>
            <a:off x="7391520" y="5878440"/>
            <a:ext cx="1562040" cy="523800"/>
          </a:xfrm>
          <a:prstGeom prst="rect">
            <a:avLst/>
          </a:prstGeom>
          <a:noFill/>
          <a:ln w="0">
            <a:noFill/>
          </a:ln>
        </p:spPr>
        <p:style>
          <a:lnRef idx="0"/>
          <a:fillRef idx="0"/>
          <a:effectRef idx="0"/>
          <a:fontRef idx="minor"/>
        </p:style>
        <p:txBody>
          <a:bodyPr lIns="45720" rIns="4572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ource: </a:t>
            </a:r>
            <a:r>
              <a:rPr b="0" lang="en-US" sz="900" spc="-1" strike="noStrike">
                <a:solidFill>
                  <a:srgbClr val="000000"/>
                </a:solidFill>
                <a:latin typeface="Futura Hv"/>
              </a:rPr>
              <a:t>Competitive Profiles:</a:t>
            </a:r>
            <a:endParaRPr b="0" lang="en-US" sz="9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Bk"/>
                <a:hlinkClick r:id="rId6"/>
              </a:rPr>
              <a:t>http://</a:t>
            </a:r>
            <a:r>
              <a:rPr b="0" lang="en-US" sz="900" spc="-1" strike="noStrike" u="sng">
                <a:solidFill>
                  <a:srgbClr val="eb5f01"/>
                </a:solidFill>
                <a:uFillTx/>
                <a:latin typeface="Futura Bk"/>
                <a:hlinkClick r:id="rId7"/>
              </a:rPr>
              <a:t>as.ideascp.com</a:t>
            </a:r>
            <a:r>
              <a:rPr b="0" lang="en-US" sz="900" spc="-1" strike="noStrike" u="sng">
                <a:solidFill>
                  <a:srgbClr val="eb5f01"/>
                </a:solidFill>
                <a:uFillTx/>
                <a:latin typeface="Futura Bk"/>
                <a:hlinkClick r:id="rId8"/>
              </a:rPr>
              <a:t>/cp/</a:t>
            </a:r>
            <a:endParaRPr b="0" lang="en-US" sz="900" spc="-1" strike="noStrike">
              <a:solidFill>
                <a:srgbClr val="000000"/>
              </a:solidFill>
              <a:latin typeface="Futura Bk"/>
            </a:endParaRPr>
          </a:p>
        </p:txBody>
      </p:sp>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2 November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3:06:50Z</dcterms:created>
  <dc:creator>Centers of Expertise, HP </dc:creator>
  <dc:description>© Copyright 1996, 1997–2006 Hewlett-Packard Development Company, L.P.; HP Restricted
</dc:description>
  <dc:language>en-US</dc:language>
  <cp:lastModifiedBy>RobertTe</cp:lastModifiedBy>
  <cp:lastPrinted>2005-02-04T03:07:35Z</cp:lastPrinted>
  <dcterms:modified xsi:type="dcterms:W3CDTF">2008-01-22T17:05:31Z</dcterms:modified>
  <cp:revision>243</cp:revision>
  <dc:subject/>
  <dc:title>New Product Introduction Quick Reference Ca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