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7034213" cy="9104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CED-9F33-4C1F-8CE5-41E46879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E47-3A99-4299-BB58-34D96A1E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CAD-B852-428C-9BB5-BBD158F4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9E8-EAD1-4645-9BDC-21A28AC0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75F1-33BE-4C01-AB84-5968778E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DF1-145D-4A77-BC97-C2427700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7E3-E7B3-4978-9423-47C7D72D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E72-9ED4-4315-8E1E-484D6B03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70A-ECE0-40FD-AB36-6EC1E111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DE3-6241-4EAE-9B5A-BDC15F63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40D-B897-4051-AC85-B5AC1B79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3600-D2BE-48FD-A350-955B286A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E1B9-E335-451A-84C9-9FA76ACDB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10560" y="5591160"/>
            <a:ext cx="20286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NEMA 5-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03541-xxx Power Cords 13-20 Amp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01 USA/Japan  -011 Aus/N.Zeal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021 C.Europe     -031 UK/Ireland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511 Switzerland -481 Denmar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461 Italy             -AR1 India/S.Africa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BT1  Isra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28520" y="0"/>
            <a:ext cx="4183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CI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78040" y="2562120"/>
            <a:ext cx="2436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 controllers, cache, batterie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04305-B21   HSJ80 RAID Array Controller w/ 512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778040" y="380880"/>
            <a:ext cx="7920" cy="647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2240" y="2876400"/>
            <a:ext cx="0" cy="398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46920" y="5638680"/>
            <a:ext cx="18464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76240" y="2946240"/>
            <a:ext cx="2470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3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47440" y="4160880"/>
            <a:ext cx="2856960" cy="1919160"/>
            <a:chOff x="1747440" y="4160880"/>
            <a:chExt cx="2856960" cy="1919160"/>
          </a:xfrm>
        </p:grpSpPr>
        <p:sp>
          <p:nvSpPr>
            <p:cNvPr id="53" name=""/>
            <p:cNvSpPr/>
            <p:nvPr/>
          </p:nvSpPr>
          <p:spPr>
            <a:xfrm>
              <a:off x="2329920" y="4160880"/>
              <a:ext cx="227448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ompaq 9142 Rack, options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1   9142 42U Cab (opal) No PDU- Flat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2   9142 42U Cab (opal) No PDU- Shock Pall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3-B23   9142 42U Cab (opal) No PDU- Crate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0-B21 Side Pane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3-B21 Rack Stabilize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69-B21 Multi-Bay Ki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0677/678-B21 Fan Kit 110/220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69940-B21 Blank Panel Kit (Qty 4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1 PDU DOM Low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5-30P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2 PDU DOM 16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6-2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95363-003 PDU DOM 32 Amp - Zero 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2 ft L6-30P  Pdu supports 6 p/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Order 9142  with 1 or 2 PDU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Not all options show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1747440" y="4240080"/>
              <a:ext cx="674280" cy="1474560"/>
              <a:chOff x="1747440" y="4240080"/>
              <a:chExt cx="674280" cy="1474560"/>
            </a:xfrm>
          </p:grpSpPr>
          <p:grpSp>
            <p:nvGrpSpPr>
              <p:cNvPr id="55" name=""/>
              <p:cNvGrpSpPr/>
              <p:nvPr/>
            </p:nvGrpSpPr>
            <p:grpSpPr>
              <a:xfrm>
                <a:off x="1801800" y="4240080"/>
                <a:ext cx="574560" cy="1474560"/>
                <a:chOff x="1801800" y="4240080"/>
                <a:chExt cx="574560" cy="147456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1801800" y="4240080"/>
                  <a:ext cx="574560" cy="14079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801800" y="5660640"/>
                  <a:ext cx="149760" cy="525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226600" y="5662440"/>
                  <a:ext cx="149400" cy="522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" name=""/>
              <p:cNvSpPr/>
              <p:nvPr/>
            </p:nvSpPr>
            <p:spPr>
              <a:xfrm>
                <a:off x="1761120" y="4316400"/>
                <a:ext cx="6606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ompaq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914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Retm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OPAL onl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47440" y="5421240"/>
                <a:ext cx="631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42U Ra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01800" y="5110200"/>
                <a:ext cx="56052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No CT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17360" y="2009880"/>
            <a:ext cx="18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7840" y="2863800"/>
            <a:ext cx="26668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closure  op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5-B21   180 Watt Power Supply for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   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   4214R Dual Bus I/O Modul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91280" y="81000"/>
            <a:ext cx="1186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7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85960" y="41911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795320" y="2501640"/>
            <a:ext cx="2748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33840" y="251460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38520" y="341640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2240" y="144360"/>
            <a:ext cx="186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ler Enclosure - 4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511200"/>
            <a:ext cx="1765440" cy="2034000"/>
            <a:chOff x="0" y="511200"/>
            <a:chExt cx="1765440" cy="2034000"/>
          </a:xfrm>
        </p:grpSpPr>
        <p:sp>
          <p:nvSpPr>
            <p:cNvPr id="74" name=""/>
            <p:cNvSpPr/>
            <p:nvPr/>
          </p:nvSpPr>
          <p:spPr>
            <a:xfrm>
              <a:off x="576720" y="511200"/>
              <a:ext cx="43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7240" y="1241280"/>
              <a:ext cx="415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a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960" y="19908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6000" y="1963800"/>
              <a:ext cx="14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135820-B21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cludes:</a:t>
              </a: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(2) 180W Power Supplies, (3)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ans, (6) Ultra SCSI I/O Modules, EMU,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2) IEC C13-C14 Power Cords, RETMA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mounting ki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2533680"/>
              <a:ext cx="17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253044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el 42xx /43xx Device Enclosure - 3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195720"/>
            <a:ext cx="1758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03381-001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4 Bay Device Enclosure, RETMA mounting kit, (2) Blower, (1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3815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5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9021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4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4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7840" y="3419640"/>
            <a:ext cx="31132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for CTO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256-B21  1Meter, 168257-B21  2M, 189505-B21 3M, 400983-005  5M, 400985-010 10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I Cab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CIA-10  10M, BNCIA-20  20M, BNCIA-45  45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ar Coupl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C  8 ports, dual CI path w/ Cabin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C008-AD  8 ports, dual CI path. Upgrades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o 16 CI ports - installs inside SC008-A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2400" y="4191120"/>
            <a:ext cx="0" cy="26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3480" y="6008760"/>
            <a:ext cx="292392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Other 9000 Series Racks Suppor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1  9136 -36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3  9136 -36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1  9122 -22U Cab (opal) No PDU- Flat Pall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3  9122 -22U Cab (opal) No PDU- Cra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13680" y="5091120"/>
            <a:ext cx="3411000" cy="1600920"/>
            <a:chOff x="4513680" y="5091120"/>
            <a:chExt cx="3411000" cy="1600920"/>
          </a:xfrm>
        </p:grpSpPr>
        <p:sp>
          <p:nvSpPr>
            <p:cNvPr id="85" name=""/>
            <p:cNvSpPr/>
            <p:nvPr/>
          </p:nvSpPr>
          <p:spPr>
            <a:xfrm>
              <a:off x="5073480" y="5091120"/>
              <a:ext cx="2851200" cy="160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odular Storage Cabinet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1-B21  42U  (opal) 6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2-B22  42U  (opal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3-B21  36U  (opal) 6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4-B22  36U  (opal) 50Hz w/ (2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5-B21  22U  (opal) 6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6-B22  22U  (opal) 50Hz w/ (12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7-B21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60Hz w/ (26) IEC320-C13 to C14 Power Cord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80318-B22  41U  (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) 50Hz w/ (26) IEC320-C13 to C14 Power Cord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ll Modular Storage Cabs include: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Front &amp; back doors, Side panels, (2) 2U 24Amp PDUs each with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15’ L6-30P input Power Cord, (16) IEC320-C13 receptac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13680" y="5163840"/>
              <a:ext cx="694080" cy="1289520"/>
              <a:chOff x="4513680" y="5163840"/>
              <a:chExt cx="694080" cy="1289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4579920" y="5208120"/>
                <a:ext cx="555480" cy="1245240"/>
                <a:chOff x="4579920" y="5208120"/>
                <a:chExt cx="555480" cy="12452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579920" y="5208120"/>
                  <a:ext cx="555480" cy="11890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114480"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9920" y="6408000"/>
                  <a:ext cx="144720" cy="4428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990680" y="6409440"/>
                  <a:ext cx="144720" cy="439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4513680" y="5163840"/>
                <a:ext cx="694080" cy="120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Modular</a:t>
                </a:r>
                <a:br>
                  <a:rPr sz="800"/>
                </a:b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Storag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abine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22U, 36U,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42U are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9000 Series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Racks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(41U is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Pre-configure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Times New Roman"/>
                  </a:rPr>
                  <a:t>ESA12000 Cab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TO avail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8582760" y="1830240"/>
            <a:ext cx="9594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 Controllers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che or D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47840" y="8244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23160" y="295200"/>
            <a:ext cx="633240" cy="1550880"/>
            <a:chOff x="8723160" y="29520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23160" y="295200"/>
              <a:ext cx="633240" cy="14810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23160" y="1788840"/>
              <a:ext cx="164880" cy="5580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191520" y="1790640"/>
              <a:ext cx="164880" cy="554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697960" y="2844720"/>
            <a:ext cx="1044000" cy="2820960"/>
            <a:chOff x="8697960" y="2844720"/>
            <a:chExt cx="1044000" cy="2820960"/>
          </a:xfrm>
        </p:grpSpPr>
        <p:grpSp>
          <p:nvGrpSpPr>
            <p:cNvPr id="99" name=""/>
            <p:cNvGrpSpPr/>
            <p:nvPr/>
          </p:nvGrpSpPr>
          <p:grpSpPr>
            <a:xfrm>
              <a:off x="8861400" y="3057480"/>
              <a:ext cx="633240" cy="1550880"/>
              <a:chOff x="8861400" y="3057480"/>
              <a:chExt cx="633240" cy="1550880"/>
            </a:xfrm>
          </p:grpSpPr>
          <p:sp>
            <p:nvSpPr>
              <p:cNvPr id="100" name=""/>
              <p:cNvSpPr/>
              <p:nvPr/>
            </p:nvSpPr>
            <p:spPr>
              <a:xfrm>
                <a:off x="8861400" y="3057480"/>
                <a:ext cx="633240" cy="14810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61400" y="4551120"/>
                <a:ext cx="164880" cy="5580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9329760" y="4552920"/>
                <a:ext cx="164880" cy="554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8697960" y="2844720"/>
              <a:ext cx="968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D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18840" y="4599000"/>
              <a:ext cx="10231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0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  M220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9)   425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8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NO Controllers,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ache or Disk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546440" y="2857680"/>
            <a:ext cx="51469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66960" y="700200"/>
            <a:ext cx="451152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cluster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olution Kit: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OpenVMS, V8.5A, 203694-001;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Ss Supported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dapter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 softwar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6.2               CIXCD                        VMSClus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1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VAX OpenVMS 7.2 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6.2-1H3      CIPCA                         VMSCluste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1H1             “                                        “       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                  “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pha OpenVMS 7.2-1              “                                         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J80 Storage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3693-B21  ACS V8.5J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45000" y="50227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0" y="4848120"/>
            <a:ext cx="1776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438960" y="466560"/>
            <a:ext cx="0" cy="240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649280" y="142920"/>
            <a:ext cx="1003320" cy="2762280"/>
            <a:chOff x="7649280" y="142920"/>
            <a:chExt cx="1003320" cy="2762280"/>
          </a:xfrm>
        </p:grpSpPr>
        <p:sp>
          <p:nvSpPr>
            <p:cNvPr id="111" name=""/>
            <p:cNvSpPr/>
            <p:nvPr/>
          </p:nvSpPr>
          <p:spPr>
            <a:xfrm>
              <a:off x="7665840" y="14292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49280" y="17319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1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36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214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765920" y="336600"/>
            <a:ext cx="633240" cy="1417320"/>
            <a:chOff x="7765920" y="336600"/>
            <a:chExt cx="633240" cy="1417320"/>
          </a:xfrm>
        </p:grpSpPr>
        <p:sp>
          <p:nvSpPr>
            <p:cNvPr id="114" name=""/>
            <p:cNvSpPr/>
            <p:nvPr/>
          </p:nvSpPr>
          <p:spPr>
            <a:xfrm>
              <a:off x="7765920" y="336600"/>
              <a:ext cx="63324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65920" y="170172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34280" y="170352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" name="front" descr=""/>
          <p:cNvPicPr/>
          <p:nvPr/>
        </p:nvPicPr>
        <p:blipFill>
          <a:blip r:embed="rId1"/>
          <a:stretch/>
        </p:blipFill>
        <p:spPr>
          <a:xfrm>
            <a:off x="8007480" y="3733920"/>
            <a:ext cx="581040" cy="164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7823880" y="2813040"/>
            <a:ext cx="1003320" cy="2876760"/>
            <a:chOff x="7823880" y="2813040"/>
            <a:chExt cx="1003320" cy="2876760"/>
          </a:xfrm>
        </p:grpSpPr>
        <p:grpSp>
          <p:nvGrpSpPr>
            <p:cNvPr id="119" name=""/>
            <p:cNvGrpSpPr/>
            <p:nvPr/>
          </p:nvGrpSpPr>
          <p:grpSpPr>
            <a:xfrm>
              <a:off x="7940520" y="2997360"/>
              <a:ext cx="633240" cy="1540800"/>
              <a:chOff x="7940520" y="2997360"/>
              <a:chExt cx="633240" cy="1540800"/>
            </a:xfrm>
          </p:grpSpPr>
          <p:sp>
            <p:nvSpPr>
              <p:cNvPr id="120" name=""/>
              <p:cNvSpPr/>
              <p:nvPr/>
            </p:nvSpPr>
            <p:spPr>
              <a:xfrm>
                <a:off x="7940520" y="2997360"/>
                <a:ext cx="63324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40520" y="448164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408880" y="448308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7830720" y="2813040"/>
              <a:ext cx="950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MA12000 S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23880" y="4516560"/>
              <a:ext cx="10033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175994-B21/60Hz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42U Modula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torage Cab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1)   M2200 Enclosur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  4310 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SCSI VHD-VH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Cabl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Controllers, Batteri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and Disks ordered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eparatel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591960" y="157176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2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718320" y="395280"/>
            <a:ext cx="651960" cy="1131840"/>
            <a:chOff x="6718320" y="395280"/>
            <a:chExt cx="651960" cy="1131840"/>
          </a:xfrm>
        </p:grpSpPr>
        <p:sp>
          <p:nvSpPr>
            <p:cNvPr id="127" name=""/>
            <p:cNvSpPr/>
            <p:nvPr/>
          </p:nvSpPr>
          <p:spPr>
            <a:xfrm>
              <a:off x="6718320" y="395280"/>
              <a:ext cx="65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A8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737400" y="579600"/>
              <a:ext cx="632880" cy="947520"/>
              <a:chOff x="6737400" y="579600"/>
              <a:chExt cx="632880" cy="947520"/>
            </a:xfrm>
          </p:grpSpPr>
          <p:sp>
            <p:nvSpPr>
              <p:cNvPr id="129" name=""/>
              <p:cNvSpPr/>
              <p:nvPr/>
            </p:nvSpPr>
            <p:spPr>
              <a:xfrm>
                <a:off x="6737400" y="579600"/>
                <a:ext cx="632880" cy="904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737400" y="149220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05400" y="1493280"/>
                <a:ext cx="164880" cy="338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2136600" y="35568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38520" y="4540320"/>
            <a:ext cx="329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3800" y="4548240"/>
            <a:ext cx="32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CSI Extenders / Translators for External (to cabinet) Device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A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SE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S-DWZZC-D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 Ultra SCSI to Diff Ultra SCSI, Tableto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383080"/>
            <a:ext cx="175896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Single Bus, 10 Bay Device Enclosure, RETMA mounting kit, (2) Blower, (2) Power Supply, (1) IEC-C13 to           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4630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350R (Ultra 3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- Dual Bus, 10 Bay Device Enclosure, RETMA mounting kit, (2) Blowers, (2) Power Supplies, (2) IEC-C13 to NEMA 5-15P Power Cords , (2) IEC-C13 to IEC-C14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53240" y="903240"/>
            <a:ext cx="590400" cy="342720"/>
            <a:chOff x="6753240" y="903240"/>
            <a:chExt cx="590400" cy="342720"/>
          </a:xfrm>
        </p:grpSpPr>
        <p:sp>
          <p:nvSpPr>
            <p:cNvPr id="137" name=""/>
            <p:cNvSpPr/>
            <p:nvPr/>
          </p:nvSpPr>
          <p:spPr>
            <a:xfrm>
              <a:off x="6753240" y="903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59720" y="925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53240" y="741240"/>
            <a:ext cx="590400" cy="215640"/>
            <a:chOff x="6753240" y="741240"/>
            <a:chExt cx="590400" cy="215640"/>
          </a:xfrm>
        </p:grpSpPr>
        <p:sp>
          <p:nvSpPr>
            <p:cNvPr id="140" name=""/>
            <p:cNvSpPr/>
            <p:nvPr/>
          </p:nvSpPr>
          <p:spPr>
            <a:xfrm>
              <a:off x="6753240" y="7840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61240" y="7412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781760" y="512640"/>
            <a:ext cx="590400" cy="215640"/>
            <a:chOff x="7781760" y="512640"/>
            <a:chExt cx="590400" cy="215640"/>
          </a:xfrm>
        </p:grpSpPr>
        <p:sp>
          <p:nvSpPr>
            <p:cNvPr id="143" name=""/>
            <p:cNvSpPr/>
            <p:nvPr/>
          </p:nvSpPr>
          <p:spPr>
            <a:xfrm>
              <a:off x="7781760" y="555480"/>
              <a:ext cx="590400" cy="11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89760" y="5126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775640" y="674640"/>
            <a:ext cx="626760" cy="714240"/>
            <a:chOff x="7775640" y="674640"/>
            <a:chExt cx="626760" cy="714240"/>
          </a:xfrm>
        </p:grpSpPr>
        <p:sp>
          <p:nvSpPr>
            <p:cNvPr id="146" name=""/>
            <p:cNvSpPr/>
            <p:nvPr/>
          </p:nvSpPr>
          <p:spPr>
            <a:xfrm>
              <a:off x="7781760" y="674640"/>
              <a:ext cx="599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5640" y="874440"/>
              <a:ext cx="62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8744040" y="874800"/>
            <a:ext cx="590400" cy="342720"/>
            <a:chOff x="8744040" y="874800"/>
            <a:chExt cx="590400" cy="342720"/>
          </a:xfrm>
        </p:grpSpPr>
        <p:sp>
          <p:nvSpPr>
            <p:cNvPr id="149" name=""/>
            <p:cNvSpPr/>
            <p:nvPr/>
          </p:nvSpPr>
          <p:spPr>
            <a:xfrm>
              <a:off x="8744040" y="8748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50520" y="8967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8744040" y="712800"/>
            <a:ext cx="590400" cy="215640"/>
            <a:chOff x="8744040" y="712800"/>
            <a:chExt cx="590400" cy="215640"/>
          </a:xfrm>
        </p:grpSpPr>
        <p:sp>
          <p:nvSpPr>
            <p:cNvPr id="152" name=""/>
            <p:cNvSpPr/>
            <p:nvPr/>
          </p:nvSpPr>
          <p:spPr>
            <a:xfrm>
              <a:off x="8744040" y="7552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52040" y="7128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962840" y="3218040"/>
            <a:ext cx="590400" cy="215640"/>
            <a:chOff x="7962840" y="3218040"/>
            <a:chExt cx="590400" cy="215640"/>
          </a:xfrm>
        </p:grpSpPr>
        <p:sp>
          <p:nvSpPr>
            <p:cNvPr id="155" name=""/>
            <p:cNvSpPr/>
            <p:nvPr/>
          </p:nvSpPr>
          <p:spPr>
            <a:xfrm>
              <a:off x="7962840" y="326052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70840" y="321804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956720" y="3379680"/>
            <a:ext cx="617400" cy="714240"/>
            <a:chOff x="7956720" y="3379680"/>
            <a:chExt cx="617400" cy="714240"/>
          </a:xfrm>
        </p:grpSpPr>
        <p:sp>
          <p:nvSpPr>
            <p:cNvPr id="158" name=""/>
            <p:cNvSpPr/>
            <p:nvPr/>
          </p:nvSpPr>
          <p:spPr>
            <a:xfrm>
              <a:off x="7962840" y="3379680"/>
              <a:ext cx="590760" cy="71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56720" y="3579480"/>
              <a:ext cx="6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6) 10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877240" y="3198960"/>
            <a:ext cx="590400" cy="342720"/>
            <a:chOff x="8877240" y="3198960"/>
            <a:chExt cx="590400" cy="342720"/>
          </a:xfrm>
        </p:grpSpPr>
        <p:sp>
          <p:nvSpPr>
            <p:cNvPr id="161" name=""/>
            <p:cNvSpPr/>
            <p:nvPr/>
          </p:nvSpPr>
          <p:spPr>
            <a:xfrm>
              <a:off x="8877240" y="319896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83720" y="322092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877240" y="3036960"/>
            <a:ext cx="590400" cy="215640"/>
            <a:chOff x="8877240" y="3036960"/>
            <a:chExt cx="590400" cy="215640"/>
          </a:xfrm>
        </p:grpSpPr>
        <p:sp>
          <p:nvSpPr>
            <p:cNvPr id="164" name=""/>
            <p:cNvSpPr/>
            <p:nvPr/>
          </p:nvSpPr>
          <p:spPr>
            <a:xfrm>
              <a:off x="8877240" y="307944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985240" y="303696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8877240" y="3684600"/>
            <a:ext cx="590400" cy="342720"/>
            <a:chOff x="8877240" y="3684600"/>
            <a:chExt cx="590400" cy="342720"/>
          </a:xfrm>
        </p:grpSpPr>
        <p:sp>
          <p:nvSpPr>
            <p:cNvPr id="167" name=""/>
            <p:cNvSpPr/>
            <p:nvPr/>
          </p:nvSpPr>
          <p:spPr>
            <a:xfrm>
              <a:off x="8877240" y="368460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83720" y="370656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877240" y="3522600"/>
            <a:ext cx="590400" cy="215640"/>
            <a:chOff x="8877240" y="3522600"/>
            <a:chExt cx="590400" cy="215640"/>
          </a:xfrm>
        </p:grpSpPr>
        <p:sp>
          <p:nvSpPr>
            <p:cNvPr id="170" name=""/>
            <p:cNvSpPr/>
            <p:nvPr/>
          </p:nvSpPr>
          <p:spPr>
            <a:xfrm>
              <a:off x="8877240" y="3565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85240" y="3522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8877240" y="4170240"/>
            <a:ext cx="590400" cy="342720"/>
            <a:chOff x="8877240" y="4170240"/>
            <a:chExt cx="590400" cy="342720"/>
          </a:xfrm>
        </p:grpSpPr>
        <p:sp>
          <p:nvSpPr>
            <p:cNvPr id="173" name=""/>
            <p:cNvSpPr/>
            <p:nvPr/>
          </p:nvSpPr>
          <p:spPr>
            <a:xfrm>
              <a:off x="8877240" y="4170240"/>
              <a:ext cx="59040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883720" y="4192200"/>
              <a:ext cx="56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3) 14 Ba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closur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8877240" y="4008600"/>
            <a:ext cx="590400" cy="215640"/>
            <a:chOff x="8877240" y="4008600"/>
            <a:chExt cx="590400" cy="215640"/>
          </a:xfrm>
        </p:grpSpPr>
        <p:sp>
          <p:nvSpPr>
            <p:cNvPr id="176" name=""/>
            <p:cNvSpPr/>
            <p:nvPr/>
          </p:nvSpPr>
          <p:spPr>
            <a:xfrm>
              <a:off x="8877240" y="4051080"/>
              <a:ext cx="590400" cy="11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985240" y="40086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ont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8" name=""/>
          <p:cNvGraphicFramePr/>
          <p:nvPr/>
        </p:nvGraphicFramePr>
        <p:xfrm>
          <a:off x="179280" y="1427040"/>
          <a:ext cx="137160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27040"/>
                    <a:ext cx="13716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69920" y="746280"/>
          <a:ext cx="1447920" cy="50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920" y="746280"/>
                    <a:ext cx="1447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81080" y="2708280"/>
          <a:ext cx="1380960" cy="523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1080" y="2708280"/>
                    <a:ext cx="1380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79280" y="4897440"/>
          <a:ext cx="1409760" cy="514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4897440"/>
                    <a:ext cx="140976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urnickJ</cp:lastModifiedBy>
  <cp:lastPrinted>2000-06-09T14:02:01Z</cp:lastPrinted>
  <dcterms:modified xsi:type="dcterms:W3CDTF">2000-07-17T21:36:48Z</dcterms:modified>
  <cp:revision>74</cp:revision>
  <dc:subject/>
  <dc:title>No Slide Title</dc:title>
</cp:coreProperties>
</file>